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723-CC32-41D1-BFAD-B1FAD5A7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345-DBF3-4636-92B5-D2CBD5CB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C55-E229-48D5-8B56-39001DC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2D9-B7D8-4D19-A206-ABB1D161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FE4-7494-4369-A453-8AAF08F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9EB-32FE-4F7B-ADCC-6254BF5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321-D954-4B07-98EB-9F0C636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DDE-06C0-4C22-A09E-1D0A1265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4E0-561B-4DE9-8517-AC5F847D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BE9-4497-4367-93BF-7D413AA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2BF-4F1D-468F-9015-1CDFC79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273-F9E3-4D4E-AF5D-1966D182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1B2-02E3-4ED7-B705-ADE07B7D1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005000"/>
            <a:ext cx="7102440" cy="17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Book Antiqua"/>
              </a:rPr>
              <a:t>Технология обучения чтению детей с расстройствами аутистического  спектра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5660640"/>
            <a:ext cx="671544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Book Antiqua"/>
              </a:rPr>
              <a:t>Учитель-логопед МБДОУ детский сад № 4 станицы Каневской КОРОЛЬКОВА НАТАЛЬЯ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395280" y="1069920"/>
            <a:ext cx="84978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Технология работы на 3 этап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  <a:ea typeface="Times New Roman"/>
              </a:rPr>
              <a:t>педагог показывает картинки и проговаривает слов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рёт руку ребёнка в свою и действует вместе с ним, побуждая его показать в соответствующей последовательности картинки, и прочитать слов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сле того, как ребёнок с минимальной помощью научился показывать соответствующую картинку и читать слова, предлагаем ему выложить данные слова из слог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  <a:ea typeface="Times New Roman"/>
              </a:rPr>
              <a:t>закрепив на наглядном материале слова, педагог побуждает ребёнка использовать их в повседневной жиз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1069920"/>
            <a:ext cx="849780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Технология работы на 4 этап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педагог показывает карточки с предложениями и проговаривает и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рёт руку ребёнка в свою и действует вместе с ним, побуждая его показать в соответствующей последовательности карточки с предложениями, и прочитать и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сле того, как ребёнок с минимальной помощью научился показывать соответствующие карточки с предложениями и читать их, предлагаем ему выложить каждое предложение из слогов (слов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закрепив данные предложения, необходимо побуждать ребёнка к проговариванию их в повседневной жиз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50920" y="907920"/>
            <a:ext cx="871380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Результат работы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r>
              <a:rPr b="0" lang="ru-RU" sz="3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бёнок показывает букву и  проговаривает её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Читает слоги, накладывает  карточки на слоги в альбо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Читает слова, выкладывает их из слогов и использует в повседневной жиз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Читает предложения, выкладывает их из слогов (слов) и использует  в повседневной жизн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4005000"/>
            <a:ext cx="6715440" cy="17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571680" y="1268280"/>
            <a:ext cx="8115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цесс социализации ребенка начинается с  приобщения его к человеческой речи, овладения человеческим языком, несущим в себе общественно-исторический опы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571680" y="1268280"/>
            <a:ext cx="8115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нний детский аутизм (синдром Каннера) характеризуется искаженным развитием – таким типом дизонтогенеза, при котором наблюдаются сложные сочетания общего психологического недоразвития, задержанного, поврежденного развития отдельных психических функций, что приводит к ряду качественно новых патологических образ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68360" y="907920"/>
            <a:ext cx="867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АП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этап –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Учим и запоминаем буквы»;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этап –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Учимся читать и запоминать слоги»; 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этап –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Читаем и понимаем смысл прочитанного слова»; 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 этап –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Читаем и воспринимаем прочитанные слова как часть какого-то смыслового целого: словосочетания, предложения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900000" y="1082520"/>
            <a:ext cx="77043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авила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лова следует читать несколько раз: медленно, постепенно убыстряя тем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обходимо чтение сочетать с карт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ффективным является составление слов из   слогов. Это упражнение развивает у детей фонематическое восприятие, способность к анализу и синтезу, увеличивает объем кратковременной памяти, концентрацию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" descr=""/>
          <p:cNvPicPr/>
          <p:nvPr/>
        </p:nvPicPr>
        <p:blipFill>
          <a:blip r:embed="rId3"/>
          <a:stretch/>
        </p:blipFill>
        <p:spPr>
          <a:xfrm>
            <a:off x="573120" y="762120"/>
            <a:ext cx="83217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571680" y="1098720"/>
            <a:ext cx="83930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РГАНИЗАЦИЯ ЗАНЯТ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нятие с ребёнком проводится ежедневно в одно и то же время, за столом,  в отведённом помещен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лительность занятия 20 мину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 время занятия взрослый находится рядом с ребёнком и оказывает ему необходимую помощ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Calibri"/>
              </a:rPr>
              <a:t>Постоянно разговаривайте с ребёнком, комментируя вслух все свои действ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Calibri"/>
              </a:rPr>
              <a:t>Старайтесь говорить на близком расстоянии, так как тогда речь воспринимается не только громче, но и более разборчив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Calibri"/>
              </a:rPr>
              <a:t>Говорить надо чуть медленнее, отчетливо произнося звуки, слоги, сло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столе во время занятия должен находиться только альб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1227240"/>
            <a:ext cx="84978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Технология работы на 1 этап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показывая букву рукой,  выделяем её  голосо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берём руку ребёнка в свою и действуем вместе с ним, побуждая его показать букву и назвать её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после того, как ребёнок с минимальной помощью научился показывать и называть букву, предлагаем ему найти соответствующую карточку с данной буквой и наложить на её изображение в альбом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395280" y="1069920"/>
            <a:ext cx="84978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Технология работы на 2 этап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педагог, показывая слоги рукой, произносит их, выделяя  голос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берёт руку ребёнка в свою  и действует вместе с ним, побуждая его показать слог и назвать ег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после того, как ребёнок с минимальной помощью научился показывать и называть слог, предлагаем ему найти соответствующую карточку с данным слогом и наложить  её на изображение в альбом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1f497d"/>
              </a:buClr>
              <a:buFont typeface="Calibri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 В. Илюхина</cp:lastModifiedBy>
  <dcterms:modified xsi:type="dcterms:W3CDTF">2015-05-18T07:53:40Z</dcterms:modified>
  <cp:revision>33</cp:revision>
  <dc:subject/>
  <dc:title>Слайд 1</dc:title>
</cp:coreProperties>
</file>